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07E5-7B77-40B3-97D7-237ACCF93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393C-7A29-409A-91A0-66BA7F45D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2417-6C13-4A92-BCA8-A0A989AB8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38F2-9C0E-4E8D-A5F1-C9BDB5038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C1F4-CBF6-41A6-8097-CE1F0FFA9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783A-54FA-442C-8ACF-331F61B13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1BA1-7776-4C95-8D22-A33C50BC6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7979-9ECE-481B-B034-33A7AF762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1EC1-8F34-4F23-9709-4F2655EC0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A93E-27C8-4B1B-AAAC-D0482B79B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34AD-2EB6-4624-B98C-2402DAEB0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C678-2C49-4981-8135-FBADB9D88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0604570-C51F-4DE3-BE66-C5DC33EC074A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493560"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2" marL="987480" algn="ctr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3" marL="1481040" algn="ctr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1900" spc="-1" strike="noStrike">
              <a:solidFill>
                <a:srgbClr val="000099"/>
              </a:solidFill>
              <a:latin typeface="Comic Sans MS"/>
            </a:endParaRPr>
          </a:p>
          <a:p>
            <a:pPr lvl="4" marL="1974960" algn="ctr">
              <a:spcBef>
                <a:spcPts val="275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5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6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00" y="791640"/>
            <a:ext cx="986472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600" spc="-1" strike="noStrike">
                <a:solidFill>
                  <a:srgbClr val="0066ff"/>
                </a:solidFill>
                <a:latin typeface="Comic Sans MS"/>
              </a:rPr>
              <a:t>Programme Hôpital</a:t>
            </a:r>
            <a:endParaRPr b="0" lang="en-US" sz="6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84000" y="4176360"/>
            <a:ext cx="7056360" cy="2320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000" spc="-1" strike="noStrike">
                <a:solidFill>
                  <a:srgbClr val="000099"/>
                </a:solidFill>
                <a:latin typeface="Comic Sans MS"/>
              </a:rPr>
              <a:t>Réunion éditeurs du 11 juin 2008</a:t>
            </a:r>
            <a:endParaRPr b="0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793440" cy="468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16 certificats délivrés pour le JE 022003-B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2 certificats délivrés pour le JE 062005-A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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’ensemble des produits certifiés intègre la participation forfaitaire 1 euro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0">
              <a:spcBef>
                <a:spcPts val="27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4 dossiers sont en cours 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97F0-BBCA-472E-A2AC-258CB40E5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6000" y="1512360"/>
            <a:ext cx="986472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Évolution de la 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Mise à disposition sur le site du CNDA du JE B2 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06-2005-B opposable à partir du 1er juin 2008.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Décision en cours de signature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in de la certification des normes B2 2003 et B2 06-2005A au 31 août 2008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es éditeurs qui ont déposé un dossier au CNDA avec le jeu d’essai dans ces 2 normes ont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Comic Sans MS"/>
              </a:rPr>
              <a:t>1 mois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our terminer la procédure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1002-DACE-400D-A10A-F3BEAFED6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cédure de certification pour le JE 06-2005 B (à périmètre fonctionnel identique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Nouveau logiciel 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0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2003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06-2005 A :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différentielle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879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9640" y="2664000"/>
            <a:ext cx="73080" cy="1152360"/>
          </a:xfrm>
          <a:custGeom>
            <a:avLst/>
            <a:gdLst>
              <a:gd name="textAreaLeft" fmla="*/ 0 w 73080"/>
              <a:gd name="textAreaRight" fmla="*/ 2628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39B7-18FA-4506-B3C9-BB8553C684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OUSSAR Estelle</cp:lastModifiedBy>
  <dcterms:modified xsi:type="dcterms:W3CDTF">2008-06-10T10:12:55Z</dcterms:modified>
  <cp:revision>393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