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B412-5454-4F7C-B68E-1583DB560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DBEC-A14A-4F4F-BDC3-42FF0D29B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B8C5-344C-4BB8-A944-B6FB33167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E849-2A54-4F9E-BDB1-AF01406B4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FEF6-8C41-4E3B-ADC2-B77B75CC8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50DA-64C4-4E58-A831-AFDF83A4F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7E92-DA00-4AFA-A118-698352838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7CC1-60B7-4A2E-BC24-7B09053C1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2035-6AD3-4F94-B883-5FA52DBB6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73BF-7811-441A-A49B-08A4BB8E8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9066-84B8-4C3E-9D4A-062198E0A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69DF-DADE-4588-8599-0D1165431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4ACE3FF-4F96-4949-969D-0CCBA06E0851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Démarrage des échange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4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516 établissements ont démarré les tests avec les caisse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44 établissements ont fini les test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17 établissements ont fait le PV de phase 3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1 établissements ont fini la phase 4 et donc démarré en ré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ABF3-13E3-49AD-A287-BAF5BFE1F7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7280" y="1224000"/>
            <a:ext cx="9793440" cy="1123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lanning de bascule retour SMTP des retours NOEM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01880" y="1965240"/>
          <a:ext cx="7991280" cy="4488120"/>
        </p:xfrm>
        <a:graphic>
          <a:graphicData uri="http://schemas.openxmlformats.org/drawingml/2006/table">
            <a:tbl>
              <a:tblPr/>
              <a:tblGrid>
                <a:gridCol w="1649160"/>
                <a:gridCol w="3703680"/>
                <a:gridCol w="263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ouloirs (CNAM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uméros des départements concer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Date de basc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1-07-26-42-69-74-38-03-63-43-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8/05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ES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7-91-93-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R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5-78-92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-12-31-32-46-65-81-82-24-33-40-47-64-11-30-34-48-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Guadeloupe-Martinique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éunion-Mayotte-Guy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AC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A-2B-04 05-06-13-83-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6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P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2-29-35-56-44 49-53-72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3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05BD-F420-4315-A998-16BAA8F917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lus de 37 millions de factures reçue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55 établissements émet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’ensemble des CTI a reçu des flux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Action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oursuivre envoi des stocks 2005, 2006, 2007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Envoi des flux 2008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7A13-C592-4B0C-8CDC-BE0CDC1DF3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16680" y="1482840"/>
          <a:ext cx="4460760" cy="4953960"/>
        </p:xfrm>
        <a:graphic>
          <a:graphicData uri="http://schemas.openxmlformats.org/drawingml/2006/table">
            <a:tbl>
              <a:tblPr/>
              <a:tblGrid>
                <a:gridCol w="4460760"/>
              </a:tblGrid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SPECIALITE EXEC. /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ATIBILITE ASU-NAT / REG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CONNUE BDO NON TRANS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DENTIFICATION PRESTATION OBLIG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ABSENT DE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NON TROUVEE EN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NATURE DE PRESTATION ERRON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NON GERE PAR LA CAI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BENEFICIAIRE INCONNU DANS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NAT. PREST. SPE.EXECU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3280" y="1512720"/>
          <a:ext cx="4459320" cy="2646360"/>
        </p:xfrm>
        <a:graphic>
          <a:graphicData uri="http://schemas.openxmlformats.org/drawingml/2006/table">
            <a:tbl>
              <a:tblPr/>
              <a:tblGrid>
                <a:gridCol w="4459320"/>
              </a:tblGrid>
              <a:tr h="265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Les principaux motifs de rejets dans l’ordre décroissan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chantillon 309 établissement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11 millions de factu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C15B-7670-440B-BFB2-598B3503BF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9:09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