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59D9-A4A6-40FD-9D98-39026308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9B87-1B15-4462-8C07-B402F2D3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FD16-D2D6-407D-B15F-E990DCC8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5B6B-BF65-4770-BCA4-4A04B466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8743-A874-4C1F-BDFC-67A41AA2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818B-9773-462C-8B67-C3A39275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4A65-D2A2-40CE-A45C-1EE37C75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994B-7D91-43A0-B059-44EB303C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5805-066E-4EC9-83D9-1877F3F9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726F-00EB-4C10-861C-61840C1B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029-D839-47CE-96F6-9D775B9C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422A-7AC8-424D-BBEC-C2BD1967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4920"/>
            <a:ext cx="3962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7200" y="6248160"/>
            <a:ext cx="4572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D20D-259F-43CF-8926-51978F0C7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96080" y="5943600"/>
          <a:ext cx="114300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5943600"/>
                    <a:ext cx="114300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éunion avec les éditeurs de logiciels de facturation des établissements ex-DG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HO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1 juin 200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5867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elle OUSSAR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HOS, bureau des systèmes d’information hospitali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énéralisation de la télétransmiss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alendrier de bascule des couloi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50680"/>
            <a:ext cx="8229600" cy="43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-606600" y="1600200"/>
          <a:ext cx="8683920" cy="552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6600" y="1600200"/>
                    <a:ext cx="868392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69F0-3A58-4025-8556-0F6D9031F9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énéralisation de la télétransmiss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appels et règles de bonne prati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els sur le schéma de dématérialisation des échan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GMSIH/DHOS/CNAMTS/MSA/DGFI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ur les établissements : vigilance à toutes les étapes du circui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ification des 15 caractè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plissage des fiches contact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oitation de ces retou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aux de bord de suivi des flux envoyés avec les partenai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ation des organisa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équences pour les éditeu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égration des retours dans la chaîne de factur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uration d’un contrôle bloquant sur les 15 caractè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ésentation DGFI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419640" y="5445000"/>
          <a:ext cx="914400" cy="714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544500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12E6-9F21-4619-9C26-A26F4D5842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sur la cert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ésentation CNAM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3159-EDEF-4646-A824-5B9622E601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age des médicaments rétrocédé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sentation CNAM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aboration d’un « mode opératoire » avec l’assurance maladie pour la mise en œuvre par les établissemen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égration dans le Guide de facturation disponible sur le site de la DHOS, dans la suite du guide d’admi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ôles assurance maladie : date d’application à fix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788000" y="1773360"/>
          <a:ext cx="914400" cy="771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7336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DAEA-E734-4515-8BB6-854D330874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e à jour des certificats de chiffr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sentation GIP CPS/DCI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114800" y="3071880"/>
          <a:ext cx="914400" cy="714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07188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3769-851A-4950-A379-0263475EB0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on des dro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at d’avancement du projet consultation des droits (CD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ésentation CNAMTS/DC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I de lecture des cartes Vitale (V4 et V5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ésentation CNAMTS/DC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C150-792F-4FAF-ADD3-B270ADA2FC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e situation RP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ésentations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P CPS/MI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SI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258920" y="4221000"/>
          <a:ext cx="914400" cy="714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2100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002D-A67C-4DDC-A5D8-A5B7D3381E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uration individuelle direc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èse d’une expérimentation en 2009 en attente d’arbitr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tiers préalab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quisition des dro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é des données relatives aux droits des patients : API de lecture des cartes Sésame Vitale, bornes Vitale de mise à jour, consultation des droits en lig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 en pla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’outils d’auto-diagnos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ableaux de bord CNAMTS - MS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 en pla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’outils d’amélioration des pratiq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tier MEAH recouvrement : généralisation 40 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e d’analyse des rejets, juin 200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e d’admission, DHOS, février 2008, puis guide de factur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et form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 personnels concerné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s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 informations dans 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prise en charg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036F-C1CC-4C45-B66F-0F5201FE3A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diver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dre du jou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e situation sur la mise en place de l’infrastructure d’échanges sécurisé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tat des lieux, mai 200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alités de simplif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age UCD médica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 au point sur la certif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els sur le schéma de dématérialis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 certificats de chiffr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on des dro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I Vita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uration directe et chantiers préalab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2F0-3741-4C0F-8495-A2668246B1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létransmission : état des lieux (1) </a:t>
            </a:r>
            <a:br>
              <a:rPr sz="2800"/>
            </a:b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frastructure d’échanges sécurisé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ésultats de l’enquête DHOS mai 2008 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ion de la mise en place d’une infrastructure d’échanges sécurisée et de l’envoi des flux 1 eu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5 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 établissements ont une infrastructure d’échanges sécurisé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 % des CHU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e 55 % en janvier 2008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ès de 16 % sont en B2 2005 sécurisé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 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 établissements sont 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 un tiers d’entre eux attendent les conditions de validation de la phase 4 pour s ’y engag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 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nt en phase 4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 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’ont pas encore débuté les te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B436-293F-4E12-9307-9CAE4BCD01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létransmission : état des lieux (2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lux 1 eur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 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 établissements ont constitué leurs stocks 1 euro, don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s de 60 % au moins une anné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ès de 80 % pour les 3 années (2005-2006-200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 établissements ayant transmis leurs stocks ont reçu une confirmation de la caisse pivot, mais n’ont pas de retour sur leur trait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rejets sont quantifiés : taux de rejet moyen 38 %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à pondérer avec le taux de réponse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sont ni identifiés ni analysé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at des lieux de la CNAM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E0EF-5576-4722-AE49-CA652E53C9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1600" y="990720"/>
            <a:ext cx="8643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isement des critères « capacité de remontée des stocks 1€ » et « norme de télétransmission 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62 établissements ont répondu à l’une ou l’autre des questions (95%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524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tat d’avancement : cartographie des établiss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738360" y="5146560"/>
            <a:ext cx="1338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n disponi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 = ri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-663840" y="4366080"/>
            <a:ext cx="20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tat des st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90800" y="2708280"/>
            <a:ext cx="21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élé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43120" y="3983040"/>
            <a:ext cx="93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poni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62440" y="2935440"/>
            <a:ext cx="13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n sécurisé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81600" y="2927520"/>
            <a:ext cx="142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écurisé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17800" y="3276720"/>
            <a:ext cx="1440" cy="273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17800" y="3276720"/>
            <a:ext cx="20520" cy="273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57840" y="3297240"/>
            <a:ext cx="1440" cy="271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57840" y="3297240"/>
            <a:ext cx="20520" cy="2714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97880" y="3297240"/>
            <a:ext cx="1440" cy="271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97880" y="3297240"/>
            <a:ext cx="20520" cy="2714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38320" y="3276720"/>
            <a:ext cx="5680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3276720"/>
            <a:ext cx="56800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38320" y="4633920"/>
            <a:ext cx="5680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38320" y="4633920"/>
            <a:ext cx="56800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38320" y="5991120"/>
            <a:ext cx="5680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38320" y="5991120"/>
            <a:ext cx="568008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6000" y="2276640"/>
            <a:ext cx="1661760" cy="515880"/>
          </a:xfrm>
          <a:prstGeom prst="wedgeRectCallout">
            <a:avLst>
              <a:gd name="adj1" fmla="val -50763"/>
              <a:gd name="adj2" fmla="val 21646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 les plus avanc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5240" y="6151680"/>
            <a:ext cx="1662120" cy="515880"/>
          </a:xfrm>
          <a:prstGeom prst="wedgeRectCallout">
            <a:avLst>
              <a:gd name="adj1" fmla="val 41689"/>
              <a:gd name="adj2" fmla="val -12446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 les plus en ret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2600" y="3797280"/>
            <a:ext cx="23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9 ES, soit 1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07040" y="3797280"/>
            <a:ext cx="23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2 ES, soit 4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02360" y="5160960"/>
            <a:ext cx="233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6 ES, soit 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28840" y="4902120"/>
            <a:ext cx="2352600" cy="8323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1 ES, soit 1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63880" y="6129360"/>
            <a:ext cx="469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FB83-3095-46A6-8F09-62DB9DB550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 flipV="1">
            <a:off x="1324080" y="921960"/>
            <a:ext cx="6946920" cy="454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86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de progression de la mise en place de la télétransmi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6480" y="981000"/>
            <a:ext cx="181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État d’avancement des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35040" y="5632560"/>
            <a:ext cx="139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cune ou antérieure à 2003 non sécuris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2960" y="56325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3 sécuris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56325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5 sécuris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11640" y="5632560"/>
            <a:ext cx="103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3 non sécuris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24080" y="546876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1336320" y="1669680"/>
            <a:ext cx="12600" cy="376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94000" y="4343400"/>
            <a:ext cx="1442880" cy="906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0400" y="2708280"/>
            <a:ext cx="1443240" cy="906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6400" y="4330800"/>
            <a:ext cx="1442880" cy="906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3480" y="3170160"/>
            <a:ext cx="1442880" cy="906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t 7 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64000" y="4292640"/>
            <a:ext cx="1443240" cy="906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03640" y="2708280"/>
            <a:ext cx="1443240" cy="906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6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t 12 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29120" y="1413000"/>
            <a:ext cx="1443240" cy="906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3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t 6 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64360" y="4292640"/>
            <a:ext cx="1443240" cy="906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77080" y="2852640"/>
            <a:ext cx="1442880" cy="906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59640" y="1557360"/>
            <a:ext cx="1442880" cy="90648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t 1 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46960" y="907920"/>
            <a:ext cx="1662120" cy="516240"/>
          </a:xfrm>
          <a:prstGeom prst="wedgeRectCallout">
            <a:avLst>
              <a:gd name="adj1" fmla="val -13421"/>
              <a:gd name="adj2" fmla="val -476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itionnement 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87640" y="1484280"/>
            <a:ext cx="1443240" cy="906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t 2 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3679920"/>
            <a:ext cx="2035440" cy="1815840"/>
          </a:xfrm>
          <a:custGeom>
            <a:avLst/>
            <a:gdLst/>
            <a:ahLst/>
            <a:rect l="l" t="t" r="r" b="b"/>
            <a:pathLst>
              <a:path w="1112" h="981">
                <a:moveTo>
                  <a:pt x="0" y="0"/>
                </a:moveTo>
                <a:cubicBezTo>
                  <a:pt x="127" y="42"/>
                  <a:pt x="414" y="48"/>
                  <a:pt x="763" y="251"/>
                </a:cubicBezTo>
                <a:cubicBezTo>
                  <a:pt x="1112" y="454"/>
                  <a:pt x="853" y="829"/>
                  <a:pt x="876" y="981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20386200">
            <a:off x="2161800" y="1831680"/>
            <a:ext cx="3273480" cy="4111560"/>
          </a:xfrm>
          <a:custGeom>
            <a:avLst/>
            <a:gdLst/>
            <a:ahLst/>
            <a:rect l="l" t="t" r="r" b="b"/>
            <a:pathLst>
              <a:path w="1112" h="981">
                <a:moveTo>
                  <a:pt x="0" y="0"/>
                </a:moveTo>
                <a:cubicBezTo>
                  <a:pt x="127" y="42"/>
                  <a:pt x="414" y="48"/>
                  <a:pt x="763" y="251"/>
                </a:cubicBezTo>
                <a:cubicBezTo>
                  <a:pt x="1112" y="454"/>
                  <a:pt x="853" y="829"/>
                  <a:pt x="876" y="981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346040" y="3262320"/>
            <a:ext cx="230400" cy="2491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056040" y="4158720"/>
            <a:ext cx="271440" cy="2509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065400" y="5214960"/>
            <a:ext cx="300240" cy="209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282760" y="2178000"/>
            <a:ext cx="314280" cy="2224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489560" y="2707920"/>
            <a:ext cx="298440" cy="2300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238720" y="4119480"/>
            <a:ext cx="341280" cy="2793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8240" y="1773360"/>
            <a:ext cx="88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8240" y="295416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8240" y="4398840"/>
            <a:ext cx="138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s non débu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805360"/>
            <a:ext cx="1584360" cy="501840"/>
          </a:xfrm>
          <a:prstGeom prst="wedgeRectCallout">
            <a:avLst>
              <a:gd name="adj1" fmla="val 40180"/>
              <a:gd name="adj2" fmla="val -13322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 en position de vigi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6021360"/>
            <a:ext cx="1505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iveau de sécurisation de la télé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B289-9972-442A-A9FF-35A40679EF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172200" y="1685520"/>
            <a:ext cx="272736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259560" algn="just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5 éditeurs équipent 70 % des établissements 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F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P MIPI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 KESS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P CP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EMENS HEALTH SERVI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259560" algn="just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roposent une solution certifiée et sécurisé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259560" algn="just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Autres éditeurs en B2 2005 sécurisée: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NER équipe 10 établisse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E SAS : 6 établisse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I.S : 5 établisse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52280"/>
            <a:ext cx="8163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élétransmission : état des lieux (3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Zoom sur les édi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8600" y="1523880"/>
          <a:ext cx="5791320" cy="426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5791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22C5-13D2-4B12-BA9C-F50D880270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énéralisation de la télétransmiss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dalités de simplification phase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 entre les partenaires : DHOS/CNAMTS/MSA/DGF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cation de la phase 3 : nombre limité de tests effectués sur les factures envoyées par les établissements à leur caisse pivot (envoi d’un fichier d’une journée ordinaire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’établissement reste toutefois libre d’accroître le nombre de fichiers à teste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ègement applicable depuis juin 2007 aux établissements déjà télé transmetteurs, étendu aux établissements non télé transmetteurs, à une triple condition 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tests doivent porter sur l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érimètre d’activité de l’établiss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échelonnement possible des tests sur plusieurs journées de traitement)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 de rejet doivent être analysé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vec la caisse pivot, pour procéder aux ajustements induit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’ensemble des partenaires concernés doit être inform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 ces tests et de la gestion des rejet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B48C-FAEC-4B3B-B2FE-490617E97C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énéralisation de la télétransmiss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dalités de simplification phase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s d’échang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ré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vec chaqu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isse pivo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ur un des établissements dont elle est piv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el pour tous les établissement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emplir les fiches conta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adresse mail pour le SN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érifier la bonne récupération des retours NOEMI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 ’assurer de l ’exploitation de ces retou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V phase 4 élaboré et signé par le comptable public après vérification de la correcte transmission des fichiers NOEMIE 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flux de paiement (réf. 578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flux de rejet (réf. 908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usion nationale et locale d’une inform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à tous les partenai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er aux autres établissements et comptables dépendant de cette caisse pivot que les échanges en réel peuvent début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361B-F2D8-4E64-A2CC-80290A2BC4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08:39:58Z</dcterms:created>
  <dc:creator>philippe</dc:creator>
  <dc:description/>
  <dc:language>en-US</dc:language>
  <cp:lastModifiedBy>OUSSAR Estelle</cp:lastModifiedBy>
  <cp:lastPrinted>2007-11-06T12:46:12Z</cp:lastPrinted>
  <dcterms:modified xsi:type="dcterms:W3CDTF">2008-06-17T11:16:47Z</dcterms:modified>
  <cp:revision>268</cp:revision>
  <dc:subject/>
  <dc:title>Séminaire Oracle</dc:title>
</cp:coreProperties>
</file>